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1FA-8957-4F33-B3A9-24E520FB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2FD-EC6A-4F61-BE3C-EEDC973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583-EF15-4768-9E4A-FC227F85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D8A-03A6-479E-91FB-3C9AA021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F3-5BC8-466C-9248-3471035D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AB6-9F65-4C9D-B76A-E1F343F3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842-3790-4837-9292-5735E18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FA9-0EF8-4466-87F7-F786B97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549-9336-4AF0-A6AD-E8160E3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ABE-BE81-43FE-9B1E-80C9137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54C-6693-4E11-A18F-0E957F7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17C-E86B-424F-BF31-454A118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455-E018-4DFC-96C9-F4CEB054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2096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File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2590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v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0384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38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057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boutDl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3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gMg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16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4876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me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514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plashW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372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3336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4197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9140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04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91404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6:21:43Z</dcterms:created>
  <dc:creator>Kevin Bruckert</dc:creator>
  <dc:description/>
  <dc:language>en-US</dc:language>
  <cp:lastModifiedBy>Kevin Bruckert</cp:lastModifiedBy>
  <cp:lastPrinted>1998-02-11T16:42:03Z</cp:lastPrinted>
  <dcterms:modified xsi:type="dcterms:W3CDTF">1998-02-11T16:42:05Z</dcterms:modified>
  <cp:revision>2</cp:revision>
  <dc:subject/>
  <dc:title>No Slide Title</dc:title>
</cp:coreProperties>
</file>